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6ACB-1ACC-4DD7-8AFC-1B55F80675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A511-C137-4B6D-B518-293EA9C830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A6B9-7C77-4FB4-B87E-871AE1CAE8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0A45-8754-4264-AEAB-E49B356275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3407-1E4E-41BB-BEBD-6F07171487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0B9E-DFDD-45BD-BD7B-361C1DFC07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1986-5A3F-42D0-87F1-69670A1DC8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1CA6-1948-4FF8-9EF3-46C99C4EE7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1D36-B75C-4103-B5C8-7948E97B6F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FC41-B188-4A74-BC82-1FAAB54204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A30F-CD8F-482E-BD35-9C8482563C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DA3-713D-48BF-B911-2E9697F1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E09-6C88-4448-8255-1DB01278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20A-716F-49E4-85F5-C892BC3E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32C-382A-4FC3-9802-8BF2ADC1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2B8-6613-4D84-99CE-CD476605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401-CAF2-462D-8D0A-C6EA48AC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98E-8CB8-4209-93BB-E0CD6D22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E84-310C-4DB7-8F74-F77FAD3A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B7F-7485-4548-844B-97F179B3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590-9E96-4866-A3FE-F09BF83B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B3E-4AFF-4C62-88CB-40721967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970-3982-449D-8074-FA5B1831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645C-45BF-4C2B-822E-7801684BC1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4T20:55:53Z</dcterms:modified>
  <cp:revision>36</cp:revision>
  <dc:subject/>
  <dc:title>People who change the world</dc:title>
</cp:coreProperties>
</file>